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B08EB-A56A-4673-8C5D-4DC9D39E68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10E5B-6EFF-40B8-A67A-774C360125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E1F2B-695E-482F-9D4F-206D98690A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293E7-4444-4376-A3E4-BF3BE7A798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406DF-3901-45D7-BA58-0453E1B42E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A13F5-B5BB-4BD6-851B-43889DF488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38B4F-0812-4FEC-9951-3EB3DE3DF1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7430E-E9B8-4A3F-8EE3-1F5E2ED8D5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85E40-673C-47D3-A64C-E91662BFAC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335E1-1D36-4E5D-BE4A-2690AAFDD7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Rubor, calor, dolor, tumor, functio la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DF3E0-9EAE-4851-905E-3F20B5703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469D8-2CA1-43EA-8C03-ED6411D3F2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0A60D-2824-446B-813A-69C414FBD4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5392D-46B2-483E-9393-B0762525B2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3D4D9-A4CC-493D-882F-D4CEC89CF2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A1FA2-CD3B-457C-9D0E-735D59F4CB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37468-20D3-4607-9FBB-102FBB488E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DDC90-E0E4-41D2-9A20-95DFFA11FA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6ECC0-3CBD-4CF5-BAC5-4E53F14772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A5B65-6D9A-4414-8E75-890D7D4418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1237B-DBC8-48BC-8D08-E8173CA4C9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F9FD5-36F5-4B18-8A2C-2061E0AAA2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EBAF4-5EA1-4600-80B6-333521A86A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2BC3B-C286-48C6-80C6-D4DA05EC28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F8BAF-FB71-442F-A60B-B961DC1096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7101D-E1DA-455D-ADBF-4BE85864FC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A56BE-C8F9-4C4F-8C7B-3FC30B3436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9F2DB-5F08-4A0B-9937-EDC1EA5B98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BB743-DEAE-4A7A-875E-13C93B2C06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48092-2970-4ADB-BE48-F3A4390E04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EF3BB-DBDB-44A8-9540-E17E0F4794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B308C-B136-488A-9552-07172D169C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D616A-B39D-42C8-BF0E-4A1EB80F2D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64167-2D39-4A0B-AF69-B490DEB155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ADDEB-4592-4D3D-A1DC-1A9977A01B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489EE-270B-4830-97C2-79A637F245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3D6C1-EDF1-437B-8E32-09D74A05C6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AADAB-AA08-472F-8973-C489B7BAC2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59654-2665-4A2A-9939-9FD68AC8F8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03DF2-2A9D-4EF9-8C92-CFAE02B61E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DDF85-3F24-4834-BBF2-B112C206D6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4C09C-7A05-449F-B4DB-8D3296D17F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DA78B-9D87-4620-A949-47BDC26173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F3D7E-1EBA-40C5-99A7-63C07E27F0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CE7A2-9B48-416F-8501-D8D2AF70B2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C9594-58C5-4CB9-9837-2ECB3DA335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93E2B-5726-45B2-B6E2-832FE0EAC7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FB9DB-ED7B-41E7-BBD0-BB39A0527F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D8922-0A5F-4340-A419-1B10E91648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79C60-0807-4784-9968-5011E0243A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A6245-42B8-4165-BC6A-2E1F31B1B5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49960-3AAF-40A3-BA81-38112F3292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AA338-CE65-40FC-9117-070DCFD673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0D61F-6611-4120-A30A-EFEA974504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C1A4C-11C1-4963-99EF-C73B38CEB2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AE73B-E863-40F1-8575-D6F05D7DA8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66AC4-2920-45FC-A8C5-0FB0EE9658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836D6-AE6C-4A1C-AC42-33DA2CD378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5A7EE-0D93-47C5-9DCC-AA73CC9F6B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486B4-66A6-4B11-B53F-818451FB32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5A92C-08BD-41E5-89A2-256ABABAE9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00765-A78A-4F1C-836A-9708D40DED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E228A-5892-4D0F-A815-AC6483298F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7538E-B8C3-4591-9936-200CEC5D6C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A6CA5-7C06-40A6-99AF-059CA6F2AE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70262-8A57-4EB7-8CDF-2BA4891AB7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E39F2-F5E1-4723-AC46-50D307EEB7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516DB-2B06-4E02-83F8-93C0673E05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8451D-26D6-4DFB-ACF6-EDC6D8AD12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2CBAC-537A-4E10-A7B8-ED735A2FA9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3BEEB-2990-4CEA-A322-52A7A01230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64B03-4C8A-437D-ADBB-CECD42D4A8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DF439-DC6A-45CF-87DD-914C8188BB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4D34D-D795-4110-B8DB-DAA5512165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C9700-B9E1-4D36-8B53-F302E56A4E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1B8AD-E642-46DE-AE39-24D7F2BE03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E8F95-1209-4A5F-B20B-82F947BDF2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02AE-392E-4771-B455-A3003328A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F8CC-CD7B-4D25-B93C-2AC8A5EFD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032E-3160-4AC2-BC3E-7595BE732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BC20-56D1-4CEF-AA7E-15417DC97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0D1E-E986-4EAA-9A8E-AED3B88FE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BD13-7B5E-4A77-BA15-F960C6E448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E1D0-C189-4867-A82F-6CF3507D41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36B0A-A8D2-480F-908A-EBEE4AB1ED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AE90-BA5F-4CD9-8866-66410ADD84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F888-AE76-4732-B13D-AC658A5E26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42A0-67CB-4B42-94DD-BC26F66752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ADC3-CA87-4DB5-9E06-8FDE631415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1F35-F05C-43E4-B339-247D39F737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59F43-196D-4B10-B268-3A234AA3DB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8108-544B-482F-B699-805645D593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A4B4B-D7F5-47A9-BE5A-275A5A8196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D4EF4-A88E-4D91-9D99-7915E9EDF9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5998-78BC-4305-9F3A-00659B907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250E-F1FA-4AAF-9F57-FF76D5419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E3AF-7DA2-4744-8D4A-7DDC3D8EF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565C-2096-4EE6-8F5E-1FDAE2574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BB1E-5C83-40B8-9387-D85C3EFBA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10A1-F65F-4BAC-96E6-DB37029D8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C28D-4823-4C31-B327-F643E749D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AA85C-13BD-4F66-B625-CD0B463496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s-E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EE518-648D-42EB-B162-1ECDAD5A77A0}" type="slidenum">
              <a:rPr b="0" i="1" lang="es-E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"/>
          <p:cNvSpPr/>
          <p:nvPr/>
        </p:nvSpPr>
        <p:spPr>
          <a:xfrm>
            <a:off x="611280" y="3284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Rehabilitation of  patients with rheumatic disease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3EA90-4D5F-412B-BB39-89800E60D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24000" y="1341360"/>
            <a:ext cx="86407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3720" algn="just">
              <a:lnSpc>
                <a:spcPct val="80000"/>
              </a:lnSpc>
              <a:spcBef>
                <a:spcPts val="55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the clinical and radiographic picture, there are four stages of RA 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eriarticula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welling of the soft tissu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round MCP and PIP joints) and juxta-articula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оsteopor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narrowing of the joint space, development of subcortical cysts and edge erosions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su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incipien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uscle atroph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possible occurrence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ubcutaneous nodul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enosynovitis, without joint deformation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rosive changes are more prominent (destruction of the joint head)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joint sublux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ost often MCP and MTP), muscle atrophy, subcutaneous nodules and tenosynovitis,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joint de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nkyl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changes already described in the stage III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2C5F5-5807-4E46-8DA2-5DF73EB4EF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5545080" cy="2446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"/>
          <p:cNvSpPr/>
          <p:nvPr/>
        </p:nvSpPr>
        <p:spPr>
          <a:xfrm>
            <a:off x="3995640" y="189000"/>
            <a:ext cx="4978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rning stiffness (&gt; 30min),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Pai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Swelling of the symmetrical joi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MCP, MTP, PIP, wrist and other joint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ut the spine never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24F2E-3DF9-454D-B72A-075F0DC666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rcRect l="0" t="0" r="12492" b="3000"/>
          <a:stretch/>
        </p:blipFill>
        <p:spPr>
          <a:xfrm>
            <a:off x="539640" y="549360"/>
            <a:ext cx="3333960" cy="295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5780160" y="2077920"/>
            <a:ext cx="3240000" cy="30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11280" y="1000080"/>
            <a:ext cx="822960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o suspect RA?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elling of three or more joi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elling of MTP or MCP joi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 squeeze te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ning stiffness &gt; 30 mi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AB890-B9A4-41DA-9049-0DCB5A1A17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 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Laboratory testin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alyses which indicate the presence of inflammatory 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P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alyses which indicate the influence of immunological and other complaints during development of 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F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ti C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+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D5DFA-063A-4741-BB7C-64FDB28D456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44360" y="189000"/>
            <a:ext cx="89996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R/EULAR classification criteria for RA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0</a:t>
            </a:r>
            <a:br>
              <a:rPr sz="3200"/>
            </a:b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 score </a:t>
            </a:r>
            <a:r>
              <a:rPr b="1" lang="sr-Latn-CS" sz="2200" spc="-1" strike="noStrike">
                <a:solidFill>
                  <a:srgbClr val="ff0000"/>
                </a:solidFill>
                <a:latin typeface="Calibri"/>
                <a:ea typeface="Arial"/>
              </a:rPr>
              <a:t>≥ 6</a:t>
            </a:r>
            <a:r>
              <a:rPr b="1" lang="sr-Latn-CS" sz="2200" spc="-1" strike="noStrike">
                <a:solidFill>
                  <a:srgbClr val="ff0000"/>
                </a:solidFill>
                <a:latin typeface="Calibri"/>
              </a:rPr>
              <a:t> points is required for classification as definite RA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2"/>
          <p:cNvGrpSpPr/>
          <p:nvPr/>
        </p:nvGrpSpPr>
        <p:grpSpPr>
          <a:xfrm>
            <a:off x="457200" y="1484280"/>
            <a:ext cx="8055000" cy="1719360"/>
            <a:chOff x="457200" y="1484280"/>
            <a:chExt cx="8055000" cy="1719360"/>
          </a:xfrm>
        </p:grpSpPr>
        <p:sp>
          <p:nvSpPr>
            <p:cNvPr id="174" name="Rectangle 3"/>
            <p:cNvSpPr/>
            <p:nvPr/>
          </p:nvSpPr>
          <p:spPr>
            <a:xfrm>
              <a:off x="457200" y="1484280"/>
              <a:ext cx="3093480" cy="1710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) Joint involvement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4"/>
            <p:cNvSpPr/>
            <p:nvPr/>
          </p:nvSpPr>
          <p:spPr>
            <a:xfrm>
              <a:off x="3563280" y="148428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 medium-sized joint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7131240" y="148428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3563280" y="182844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-10  medium-sized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7131240" y="182844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3563280" y="2172600"/>
              <a:ext cx="3560040" cy="3344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-3 small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7131240" y="2172600"/>
              <a:ext cx="1371240" cy="3344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10"/>
            <p:cNvSpPr/>
            <p:nvPr/>
          </p:nvSpPr>
          <p:spPr>
            <a:xfrm>
              <a:off x="3563280" y="2512080"/>
              <a:ext cx="3560040" cy="33588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4-10 large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1"/>
            <p:cNvSpPr/>
            <p:nvPr/>
          </p:nvSpPr>
          <p:spPr>
            <a:xfrm>
              <a:off x="7131240" y="2512080"/>
              <a:ext cx="1371240" cy="33588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3563280" y="285768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&gt;10 small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13"/>
            <p:cNvSpPr/>
            <p:nvPr/>
          </p:nvSpPr>
          <p:spPr>
            <a:xfrm>
              <a:off x="7131240" y="285768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4"/>
            <p:cNvSpPr/>
            <p:nvPr/>
          </p:nvSpPr>
          <p:spPr>
            <a:xfrm>
              <a:off x="356328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>
              <a:off x="713124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>
              <a:off x="3563280" y="182844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3563280" y="217260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>
              <a:off x="3563280" y="251208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3563280" y="285768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20"/>
            <p:cNvSpPr/>
            <p:nvPr/>
          </p:nvSpPr>
          <p:spPr>
            <a:xfrm>
              <a:off x="45720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851220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457200" y="148428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457200" y="320364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Group 24"/>
          <p:cNvGrpSpPr/>
          <p:nvPr/>
        </p:nvGrpSpPr>
        <p:grpSpPr>
          <a:xfrm>
            <a:off x="457200" y="3247920"/>
            <a:ext cx="8066160" cy="630360"/>
            <a:chOff x="457200" y="3247920"/>
            <a:chExt cx="8066160" cy="630360"/>
          </a:xfrm>
        </p:grpSpPr>
        <p:sp>
          <p:nvSpPr>
            <p:cNvPr id="196" name="Rectangle 25"/>
            <p:cNvSpPr/>
            <p:nvPr/>
          </p:nvSpPr>
          <p:spPr>
            <a:xfrm>
              <a:off x="457200" y="3247920"/>
              <a:ext cx="3093480" cy="621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2) Duration of synovitis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6"/>
            <p:cNvSpPr/>
            <p:nvPr/>
          </p:nvSpPr>
          <p:spPr>
            <a:xfrm>
              <a:off x="3563280" y="3247920"/>
              <a:ext cx="3571200" cy="342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&lt;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6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eek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27"/>
            <p:cNvSpPr/>
            <p:nvPr/>
          </p:nvSpPr>
          <p:spPr>
            <a:xfrm>
              <a:off x="7142400" y="3247920"/>
              <a:ext cx="1371240" cy="342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28"/>
            <p:cNvSpPr/>
            <p:nvPr/>
          </p:nvSpPr>
          <p:spPr>
            <a:xfrm>
              <a:off x="3563280" y="3599280"/>
              <a:ext cx="3571200" cy="26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≥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eek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29"/>
            <p:cNvSpPr/>
            <p:nvPr/>
          </p:nvSpPr>
          <p:spPr>
            <a:xfrm>
              <a:off x="7142400" y="3599280"/>
              <a:ext cx="1371240" cy="26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30"/>
            <p:cNvSpPr/>
            <p:nvPr/>
          </p:nvSpPr>
          <p:spPr>
            <a:xfrm>
              <a:off x="356328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714240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32"/>
            <p:cNvSpPr/>
            <p:nvPr/>
          </p:nvSpPr>
          <p:spPr>
            <a:xfrm>
              <a:off x="3563280" y="359928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45720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852336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5"/>
            <p:cNvSpPr/>
            <p:nvPr/>
          </p:nvSpPr>
          <p:spPr>
            <a:xfrm>
              <a:off x="457200" y="3247920"/>
              <a:ext cx="8056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36"/>
            <p:cNvSpPr/>
            <p:nvPr/>
          </p:nvSpPr>
          <p:spPr>
            <a:xfrm>
              <a:off x="457200" y="3878280"/>
              <a:ext cx="8056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Group 37"/>
          <p:cNvGrpSpPr/>
          <p:nvPr/>
        </p:nvGrpSpPr>
        <p:grpSpPr>
          <a:xfrm>
            <a:off x="468360" y="3906720"/>
            <a:ext cx="8055000" cy="665280"/>
            <a:chOff x="468360" y="3906720"/>
            <a:chExt cx="8055000" cy="665280"/>
          </a:xfrm>
        </p:grpSpPr>
        <p:sp>
          <p:nvSpPr>
            <p:cNvPr id="209" name="Rectangle 38"/>
            <p:cNvSpPr/>
            <p:nvPr/>
          </p:nvSpPr>
          <p:spPr>
            <a:xfrm>
              <a:off x="468360" y="3906720"/>
              <a:ext cx="3080520" cy="6559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) Acute phase response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39"/>
            <p:cNvSpPr/>
            <p:nvPr/>
          </p:nvSpPr>
          <p:spPr>
            <a:xfrm>
              <a:off x="3563280" y="3906720"/>
              <a:ext cx="3585240" cy="3247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ormal levels of both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RP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nd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S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40"/>
            <p:cNvSpPr/>
            <p:nvPr/>
          </p:nvSpPr>
          <p:spPr>
            <a:xfrm>
              <a:off x="7155000" y="3906720"/>
              <a:ext cx="1358640" cy="3247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41"/>
            <p:cNvSpPr/>
            <p:nvPr/>
          </p:nvSpPr>
          <p:spPr>
            <a:xfrm>
              <a:off x="3563280" y="4239360"/>
              <a:ext cx="3585240" cy="320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bnormal levels of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RP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or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S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42"/>
            <p:cNvSpPr/>
            <p:nvPr/>
          </p:nvSpPr>
          <p:spPr>
            <a:xfrm>
              <a:off x="7155000" y="4239360"/>
              <a:ext cx="1358640" cy="320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43"/>
            <p:cNvSpPr/>
            <p:nvPr/>
          </p:nvSpPr>
          <p:spPr>
            <a:xfrm>
              <a:off x="356328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44"/>
            <p:cNvSpPr/>
            <p:nvPr/>
          </p:nvSpPr>
          <p:spPr>
            <a:xfrm>
              <a:off x="715500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45"/>
            <p:cNvSpPr/>
            <p:nvPr/>
          </p:nvSpPr>
          <p:spPr>
            <a:xfrm>
              <a:off x="3563280" y="423936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46"/>
            <p:cNvSpPr/>
            <p:nvPr/>
          </p:nvSpPr>
          <p:spPr>
            <a:xfrm>
              <a:off x="46836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47"/>
            <p:cNvSpPr/>
            <p:nvPr/>
          </p:nvSpPr>
          <p:spPr>
            <a:xfrm>
              <a:off x="852336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48"/>
            <p:cNvSpPr/>
            <p:nvPr/>
          </p:nvSpPr>
          <p:spPr>
            <a:xfrm>
              <a:off x="468360" y="390672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49"/>
            <p:cNvSpPr/>
            <p:nvPr/>
          </p:nvSpPr>
          <p:spPr>
            <a:xfrm>
              <a:off x="468360" y="457200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Rectangle 50"/>
          <p:cNvSpPr/>
          <p:nvPr/>
        </p:nvSpPr>
        <p:spPr>
          <a:xfrm>
            <a:off x="0" y="6248520"/>
            <a:ext cx="2362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1"/>
          <p:cNvSpPr/>
          <p:nvPr/>
        </p:nvSpPr>
        <p:spPr>
          <a:xfrm>
            <a:off x="5295600" y="6620040"/>
            <a:ext cx="4430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letaha D. et al. Ann Rheum Dis 2010 69: 1580-1588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52"/>
          <p:cNvGrpSpPr/>
          <p:nvPr/>
        </p:nvGrpSpPr>
        <p:grpSpPr>
          <a:xfrm>
            <a:off x="468360" y="4641840"/>
            <a:ext cx="8055000" cy="1984320"/>
            <a:chOff x="468360" y="4641840"/>
            <a:chExt cx="8055000" cy="1984320"/>
          </a:xfrm>
        </p:grpSpPr>
        <p:sp>
          <p:nvSpPr>
            <p:cNvPr id="224" name="Rectangle 53"/>
            <p:cNvSpPr/>
            <p:nvPr/>
          </p:nvSpPr>
          <p:spPr>
            <a:xfrm>
              <a:off x="468360" y="4641840"/>
              <a:ext cx="3080520" cy="197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) Serology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3563280" y="4641840"/>
              <a:ext cx="3571200" cy="3236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egative RF 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7142400" y="4641840"/>
              <a:ext cx="1371240" cy="3236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56"/>
            <p:cNvSpPr/>
            <p:nvPr/>
          </p:nvSpPr>
          <p:spPr>
            <a:xfrm>
              <a:off x="3563280" y="4974840"/>
              <a:ext cx="357120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F and/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positive at low titer: maximum 3 times above the upper reference valu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57"/>
            <p:cNvSpPr/>
            <p:nvPr/>
          </p:nvSpPr>
          <p:spPr>
            <a:xfrm>
              <a:off x="7142400" y="4974840"/>
              <a:ext cx="137124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58"/>
            <p:cNvSpPr/>
            <p:nvPr/>
          </p:nvSpPr>
          <p:spPr>
            <a:xfrm>
              <a:off x="3563280" y="5796360"/>
              <a:ext cx="357120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F and/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positive at high titer: 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&gt;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 times above the upper reference value    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59"/>
            <p:cNvSpPr/>
            <p:nvPr/>
          </p:nvSpPr>
          <p:spPr>
            <a:xfrm>
              <a:off x="7142400" y="5796360"/>
              <a:ext cx="137124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0"/>
            <p:cNvSpPr/>
            <p:nvPr/>
          </p:nvSpPr>
          <p:spPr>
            <a:xfrm>
              <a:off x="356328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61"/>
            <p:cNvSpPr/>
            <p:nvPr/>
          </p:nvSpPr>
          <p:spPr>
            <a:xfrm>
              <a:off x="714240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2"/>
            <p:cNvSpPr/>
            <p:nvPr/>
          </p:nvSpPr>
          <p:spPr>
            <a:xfrm>
              <a:off x="3563280" y="497484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3"/>
            <p:cNvSpPr/>
            <p:nvPr/>
          </p:nvSpPr>
          <p:spPr>
            <a:xfrm>
              <a:off x="3563280" y="579636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4"/>
            <p:cNvSpPr/>
            <p:nvPr/>
          </p:nvSpPr>
          <p:spPr>
            <a:xfrm>
              <a:off x="46836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65"/>
            <p:cNvSpPr/>
            <p:nvPr/>
          </p:nvSpPr>
          <p:spPr>
            <a:xfrm>
              <a:off x="852336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66"/>
            <p:cNvSpPr/>
            <p:nvPr/>
          </p:nvSpPr>
          <p:spPr>
            <a:xfrm>
              <a:off x="468360" y="464184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67"/>
            <p:cNvSpPr/>
            <p:nvPr/>
          </p:nvSpPr>
          <p:spPr>
            <a:xfrm>
              <a:off x="468360" y="662616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ext Box 6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8B48F-7BDD-459A-87EF-98427D2520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 of R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2400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The AIM of treatment is th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maintenance of functional capacity of the locomotive apparatu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joints and muscles, for enabling the patient as much as possible for performance of basic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activities of daily livin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professional ac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614E8-366E-48ED-B440-64D01EBF6D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457200" y="67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 of R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755640" y="2314440"/>
            <a:ext cx="763272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Medicamentous therapy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SAIDs, glycocorticoids, disease-modifying medicines, biological therapy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formation and educa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CFE3E-77A8-4F34-B12A-BFBD221A84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68360" y="404640"/>
            <a:ext cx="8229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hysical therapy of RA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539640" y="1197000"/>
            <a:ext cx="8147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Аcute phase –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phase of active synovit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Joint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unload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evention of joi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ormiti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y positioning of an extremity,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y use of plastic orthoses or plaster splints, which are removed during day for performing kinesi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yotherap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– reduction of inflammation and pain, 5-1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a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(isometric) contraction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5. General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inactivity and resting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A3A5A-295E-4FCA-A984-498461CC75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22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rtho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DCE4C-0183-42B2-B514-AA2F02F2BB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736720" cy="2378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3708360" y="1844640"/>
            <a:ext cx="2158920" cy="3051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6176880" y="1557360"/>
            <a:ext cx="206712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468360" y="404640"/>
            <a:ext cx="8229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Kinesitherapy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539640" y="1197000"/>
            <a:ext cx="8147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ims of kinesitherap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muscle atroph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joint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contra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development of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оsteoporosi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bone destruction due to inac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9E091-5596-47C4-AA50-452E08698D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395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heumatic disea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457200" y="1619280"/>
            <a:ext cx="82296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Rheumatic diseases are etyologically, pathogenetically, clinically and therapeutically a heterogenous group of diseases. 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main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symptom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in the structures of the locomotive apparatu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main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sig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disrupted functio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f the affected part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ome diseases involve other organs and system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886C8-6E94-4FF7-9593-C4B9B1CD4B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Kinesitherapy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250920" y="1125360"/>
            <a:ext cx="662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tatic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isometric) contractions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On weak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еxtensors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</a:rPr>
              <a:t>for maintenance of muscle mass and strength and prevention of flexor contracture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Can be performed: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In all positions, and also 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while wearing splints.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6804000" y="2205000"/>
            <a:ext cx="2152800" cy="2124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A58B1-A4BA-46DC-9249-91BFA90D91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Physical therapy of RA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in chronic phase  (remission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68360" y="1341360"/>
            <a:ext cx="82296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motherapeu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procedure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W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frared radia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raffin wax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therap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G; EF with Novocain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ortico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DDC; IFC; TENS; ES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ulse Magnetic Field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tiedematou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alge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dati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asero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alges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ti-inflammator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Hydro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arm local bath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ctive exercise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for maintenance and improvement of the 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range of mo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 the damaged joint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ctive resisted exercises with proper dosag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for maintenance and improvement of the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muscle strength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joint stabilizers. 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72723-BDF6-480C-856D-0F29D99C87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75564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kylosing spondylitis</a:t>
            </a: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5E5EA-C7A0-4F23-B62D-5506C8D2F5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395280" y="333360"/>
            <a:ext cx="826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kylosing spondyliti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Morbus Bechterew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468360" y="1484280"/>
            <a:ext cx="828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xial spondyloarthritis (by ASAS definition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hronic inflammatory rheumatic disease characterized by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ynoviti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I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 synovial joint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pinal column 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(intervertebral, costovertebral, costotransversal) and more seldom CF, GH and peripheral joints;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flammatory lesions of muscular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sertion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(еnthesitis) of the spinal column, ligaments and tendon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lvi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(attachment of annulus fibrosus, anterior and posterior longitudina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lig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 yellow ligaments),peripheral joints and synchondrosis;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flammatory or fibrous lesions of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ther organ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 algn="just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flammatory lesions of the locomotive apparatus spontaneously end in ossification,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kylosis of joints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ossification of insertions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F96C7-10A0-45EB-8143-06FC849C8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Morbus Bechterew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755640" y="1701720"/>
            <a:ext cx="76327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LAB27 allele is positive in 90 - 95%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RF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alence in the world 1 – 2%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begins between the ages of 15 and 29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common in men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 : W = 3 : 1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EA49F-8F41-43ED-ACF4-116D756DE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407880" y="189000"/>
            <a:ext cx="826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agnosis - ASAS criteri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49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C7E5D-21D2-4850-A742-2EDBC015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027760" y="2058840"/>
            <a:ext cx="3598560" cy="1128960"/>
          </a:xfrm>
          <a:prstGeom prst="rect">
            <a:avLst/>
          </a:prstGeom>
          <a:solidFill>
            <a:srgbClr val="dce6f2">
              <a:alpha val="91000"/>
            </a:srgbClr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293920" y="1192320"/>
            <a:ext cx="4438800" cy="64260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Lumbar pain ≥3 months;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age at the onset of symptoms &lt;</a:t>
            </a:r>
            <a:r>
              <a:rPr b="1" lang="sr-Latn-C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45 year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5076720" y="2058840"/>
            <a:ext cx="35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Open Sans"/>
              </a:rPr>
              <a:t>2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. 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Verified presence of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HLAB27</a:t>
            </a:r>
            <a:br>
              <a:rPr sz="1800"/>
            </a:b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 + ≥ 2 characteristics of Sp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000080" y="2058840"/>
            <a:ext cx="3751200" cy="137268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Verified sacroileitis 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(MRI or X-ray verified signs of acute inflammation acording to modified New York criteria)</a:t>
            </a:r>
            <a:br>
              <a:rPr sz="1600"/>
            </a:b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+ ≥ 1 SpA characteristic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428920" y="3357720"/>
            <a:ext cx="4824360" cy="328860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SpA characteristics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Inflammatory lumbar pai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enthesitis (heel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uve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arthr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dactyl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psorias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coll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good response to NSAID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SpA in the family anamnes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+ HLAB27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increased level of CRP (SpA characteristic only in the context of chronic lumbar pain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AutoShape 8"/>
          <p:cNvCxnSpPr/>
          <p:nvPr/>
        </p:nvCxnSpPr>
        <p:spPr>
          <a:xfrm flipH="1">
            <a:off x="2995200" y="1790280"/>
            <a:ext cx="216720" cy="2689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AutoShape 9"/>
          <p:cNvCxnSpPr/>
          <p:nvPr/>
        </p:nvCxnSpPr>
        <p:spPr>
          <a:xfrm>
            <a:off x="5796000" y="1775880"/>
            <a:ext cx="289440" cy="2754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395280" y="20520"/>
            <a:ext cx="826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nical characteristics of A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2"/>
          <p:cNvGrpSpPr/>
          <p:nvPr/>
        </p:nvGrpSpPr>
        <p:grpSpPr>
          <a:xfrm>
            <a:off x="179280" y="765000"/>
            <a:ext cx="8775720" cy="5811840"/>
            <a:chOff x="179280" y="765000"/>
            <a:chExt cx="8775720" cy="5811840"/>
          </a:xfrm>
        </p:grpSpPr>
        <p:sp>
          <p:nvSpPr>
            <p:cNvPr id="283" name="Rectangle 3"/>
            <p:cNvSpPr/>
            <p:nvPr/>
          </p:nvSpPr>
          <p:spPr>
            <a:xfrm>
              <a:off x="179280" y="765000"/>
              <a:ext cx="2739240" cy="2093400"/>
            </a:xfrm>
            <a:prstGeom prst="rect">
              <a:avLst/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SKELETAL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4"/>
            <p:cNvSpPr/>
            <p:nvPr/>
          </p:nvSpPr>
          <p:spPr>
            <a:xfrm>
              <a:off x="2928240" y="765000"/>
              <a:ext cx="6016680" cy="2093400"/>
            </a:xfrm>
            <a:prstGeom prst="rect">
              <a:avLst/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xial arthritis (sacroiliitis, spondylit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rthritis „of the waist joints“ (hips and shoulder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eripheral arthritis more seldom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Other: enthesitis, osteoporosis, vertebral fractures, spondylodiscitis, pseudoarthrosis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179280" y="2866320"/>
              <a:ext cx="2739240" cy="2090160"/>
            </a:xfrm>
            <a:prstGeom prst="rect">
              <a:avLst/>
            </a:prstGeom>
            <a:solidFill>
              <a:srgbClr val="d0e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EXTRASKELETAL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2928240" y="2866320"/>
              <a:ext cx="6016680" cy="2090160"/>
            </a:xfrm>
            <a:prstGeom prst="rect">
              <a:avLst/>
            </a:prstGeom>
            <a:solidFill>
              <a:srgbClr val="d0e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cute anterior uveitis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Cardiovascular disorders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(aortic insufficiency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spiratory disorders (lung fibros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Lesions of the intestinal mucosa (Chron's disease/collit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soriasis 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179280" y="4962600"/>
              <a:ext cx="2739240" cy="1602720"/>
            </a:xfrm>
            <a:prstGeom prst="rect">
              <a:avLst/>
            </a:prstGeom>
            <a:solidFill>
              <a:srgbClr val="e9f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SYSTEMIC MANIFESTATIONS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2928240" y="4962600"/>
              <a:ext cx="6016680" cy="1602720"/>
            </a:xfrm>
            <a:prstGeom prst="rect">
              <a:avLst/>
            </a:prstGeom>
            <a:solidFill>
              <a:srgbClr val="e9f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Fatigue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Weight loss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norexia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Night sweating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nemia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292824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179280" y="2866320"/>
              <a:ext cx="87660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79280" y="496260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7928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895500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179280" y="76500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179280" y="657684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D72BC-83AF-450F-8170-A835BBD19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412920" y="476280"/>
            <a:ext cx="826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395280" y="1197000"/>
            <a:ext cx="8280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involving locomotive syste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Vertebral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Kyphosis, kyphoscoli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tlanto-axial dislo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!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steopor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Vertebral body fracture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Cauda equina syndrome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Extravertebral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nkylosis of peripheral joint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EXTRA-ARTICULAR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myloid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ephrolythia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D781D-5150-4B73-8C88-6858D10E9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rcRect l="46407" t="5988" r="4278" b="9862"/>
          <a:stretch/>
        </p:blipFill>
        <p:spPr>
          <a:xfrm>
            <a:off x="5508720" y="1743120"/>
            <a:ext cx="3419280" cy="47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Palatino Linotype"/>
              </a:rPr>
              <a:t>Functional assesment through specifc tes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pecific instrument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tests) for A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E6832-E16F-41DD-AD3D-CBFA3C4E0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187280" y="1308240"/>
            <a:ext cx="813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23360" rIns="222336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000"/>
            </a:b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74680" y="2378160"/>
            <a:ext cx="8427960" cy="3919320"/>
            <a:chOff x="274680" y="2378160"/>
            <a:chExt cx="8427960" cy="3919320"/>
          </a:xfrm>
        </p:grpSpPr>
        <p:sp>
          <p:nvSpPr>
            <p:cNvPr id="305" name="Rectangle 5"/>
            <p:cNvSpPr/>
            <p:nvPr/>
          </p:nvSpPr>
          <p:spPr>
            <a:xfrm>
              <a:off x="274680" y="2378160"/>
              <a:ext cx="5815080" cy="631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INSTRUMENT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6099480" y="2378160"/>
              <a:ext cx="2589840" cy="631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MEASURES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7"/>
            <p:cNvSpPr/>
            <p:nvPr/>
          </p:nvSpPr>
          <p:spPr>
            <a:xfrm>
              <a:off x="274680" y="3017520"/>
              <a:ext cx="5815080" cy="7866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disease activity index (BASDA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8"/>
            <p:cNvSpPr/>
            <p:nvPr/>
          </p:nvSpPr>
          <p:spPr>
            <a:xfrm>
              <a:off x="6099480" y="3017520"/>
              <a:ext cx="2589840" cy="7866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Degree of disease activity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9"/>
            <p:cNvSpPr/>
            <p:nvPr/>
          </p:nvSpPr>
          <p:spPr>
            <a:xfrm>
              <a:off x="274680" y="3814200"/>
              <a:ext cx="5815080" cy="534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functional index (BASF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0"/>
            <p:cNvSpPr/>
            <p:nvPr/>
          </p:nvSpPr>
          <p:spPr>
            <a:xfrm>
              <a:off x="6099480" y="3814200"/>
              <a:ext cx="2589840" cy="534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11"/>
            <p:cNvSpPr/>
            <p:nvPr/>
          </p:nvSpPr>
          <p:spPr>
            <a:xfrm>
              <a:off x="274680" y="4350240"/>
              <a:ext cx="5815080" cy="5220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Dougados functional index (DF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12"/>
            <p:cNvSpPr/>
            <p:nvPr/>
          </p:nvSpPr>
          <p:spPr>
            <a:xfrm>
              <a:off x="6099480" y="4350240"/>
              <a:ext cx="2589840" cy="5220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3"/>
            <p:cNvSpPr/>
            <p:nvPr/>
          </p:nvSpPr>
          <p:spPr>
            <a:xfrm>
              <a:off x="274680" y="4880160"/>
              <a:ext cx="5815080" cy="588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metrology index (BASM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6099480" y="4880160"/>
              <a:ext cx="2589840" cy="588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74680" y="5477040"/>
              <a:ext cx="5815080" cy="80892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Modified stoke ankylosing spondylitis spinal score (m-SASSS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6099480" y="5477040"/>
              <a:ext cx="2589840" cy="80892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Structural damage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7"/>
            <p:cNvSpPr/>
            <p:nvPr/>
          </p:nvSpPr>
          <p:spPr>
            <a:xfrm>
              <a:off x="609948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8"/>
            <p:cNvSpPr/>
            <p:nvPr/>
          </p:nvSpPr>
          <p:spPr>
            <a:xfrm>
              <a:off x="274680" y="3018960"/>
              <a:ext cx="84182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9"/>
            <p:cNvSpPr/>
            <p:nvPr/>
          </p:nvSpPr>
          <p:spPr>
            <a:xfrm>
              <a:off x="274680" y="381420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0"/>
            <p:cNvSpPr/>
            <p:nvPr/>
          </p:nvSpPr>
          <p:spPr>
            <a:xfrm>
              <a:off x="274680" y="435024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74680" y="488016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2"/>
            <p:cNvSpPr/>
            <p:nvPr/>
          </p:nvSpPr>
          <p:spPr>
            <a:xfrm>
              <a:off x="274680" y="547704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3"/>
            <p:cNvSpPr/>
            <p:nvPr/>
          </p:nvSpPr>
          <p:spPr>
            <a:xfrm>
              <a:off x="27468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"/>
            <p:cNvSpPr/>
            <p:nvPr/>
          </p:nvSpPr>
          <p:spPr>
            <a:xfrm>
              <a:off x="870264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5"/>
            <p:cNvSpPr/>
            <p:nvPr/>
          </p:nvSpPr>
          <p:spPr>
            <a:xfrm>
              <a:off x="274680" y="237816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6"/>
            <p:cNvSpPr/>
            <p:nvPr/>
          </p:nvSpPr>
          <p:spPr>
            <a:xfrm>
              <a:off x="274680" y="629748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ment of the spinal column mobilit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F7C37-5134-4D81-BB16-B9E837243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68360" y="1557360"/>
            <a:ext cx="82296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Rheumatic diseases are characterized b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great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frequenc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every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7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t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patient who seeks medical help)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low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mortality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rate (as a cause of death they make a negligible share of 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01 ‰)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long-term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sickleave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th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or 2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n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eading cause of employee absenteeism)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disabilit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eading cause of physical disability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15ED9-4E00-45ED-9F9A-FFB1F27BC5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ngertip-to-Floor tes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428760" y="1643040"/>
            <a:ext cx="49719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Calibri"/>
              </a:rPr>
              <a:t>Sagittal mobility —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bending forward to the point of pain with the knees extended;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Fingertips to floor distanc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s measured in 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87EEC-99E2-4114-B2E8-7978802A9B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457200" y="270000"/>
            <a:ext cx="850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Range of motion of the cervical spine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457200" y="156672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/ext              lateroflexio                      rotat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395280" y="4464000"/>
            <a:ext cx="2322360" cy="1817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2"/>
          <a:stretch/>
        </p:blipFill>
        <p:spPr>
          <a:xfrm>
            <a:off x="3492360" y="4608360"/>
            <a:ext cx="2232000" cy="1528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3"/>
          <a:stretch/>
        </p:blipFill>
        <p:spPr>
          <a:xfrm>
            <a:off x="6500880" y="4714920"/>
            <a:ext cx="1942920" cy="15285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6"/>
          <p:cNvSpPr/>
          <p:nvPr/>
        </p:nvSpPr>
        <p:spPr>
          <a:xfrm>
            <a:off x="6858360" y="392904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tat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tto test</a:t>
            </a:r>
            <a:br>
              <a:rPr sz="3600"/>
            </a:b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08000" y="2154240"/>
            <a:ext cx="4751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rk C7 segment with a marker, then mark another point 30 cm down the spine 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t maximum anteflexion, the distance was great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an 3 c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978E3-DD8F-4E93-88B5-271D30F76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2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dified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Schober tes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971640" y="2735280"/>
            <a:ext cx="70009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1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ve and 5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low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L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 distance should be increased for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t least 5 cm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19208-AC9C-4118-9199-A1A226EE5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2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Lumbar lateroflex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45720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Lateral side bending t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level of the middle finger on each side is marked with a horizontal line on the side of the thigh. The subject is then asked to slowly bend sideways as far as possible and that level is also marked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istance between these two lines is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bout 20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ealthy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subjects.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04AB8-B43F-474B-9B53-DB38028F75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index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395280" y="1557360"/>
            <a:ext cx="79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t the level of the intercostal space 4;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x inspirium – max expirium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pends on age and gender;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l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&gt; 5 c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7EE98-8392-44E2-988D-5D1AD2912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539640" y="1557360"/>
            <a:ext cx="814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Мedicamentou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NSAIDs; disease-modifying medicines, biological Тh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2. Res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0-hour night rest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aily from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1-2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3. Education – explain the nature of the diseas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Physical therap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ai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aintain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obility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spine and coxofemoral joi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trengthen the function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respiratory muscles.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36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BFBFC-357A-4312-863E-F8A9EC0C18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457200" y="274680"/>
            <a:ext cx="82296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365040" y="1000080"/>
            <a:ext cx="83646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Ultrasou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igh-dose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1 - 1,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W/cm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on both SI joint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; on PVM of th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 spine segment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Kinesitherap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xercises for improvement of the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range of mo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of the spine, exercises for improvement of the range of motion of the hips and shoulder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breathing exercises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- thoracic (costal breathing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„to the point of crying“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hermotherap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SWD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frared radiatio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araffin wax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(pain redu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muscle relaxation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Electroanalgesia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ble galvanizatio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F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with vasodilator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otassium-iodide and hydrocortison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yadynamic currents; Intraferential currents; Electrostimulation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ulse Magnetic Field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Laserotherapy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Massage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(reduces p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decreases the tone of PVM, improves circulation and local metabolism of the tissues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C96D7-9772-45AB-934D-D4726B425A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68436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generative rheumatis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457200" y="66816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rheumatism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755640" y="1484280"/>
            <a:ext cx="7561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Rheumatism of the peripheral join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rthros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Degenerative rheumatic disease of the spine –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pondylo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ervical syndrom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umbar syndrom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B2760-AAA4-4A3F-A636-E38590D4E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lassification of rheumatic disea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826920" y="2075040"/>
            <a:ext cx="785988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egenerative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Extra-articular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Rare rheumatic diseases and para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6AE84-F746-44E9-BB2B-1ECDB96739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08000" y="549360"/>
            <a:ext cx="90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diseases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rthroses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) of joint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1187280" y="1387440"/>
            <a:ext cx="7560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rthroses are defined as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amage of the joint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cartillag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ith proliferation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f the bone ending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ithout synovial inflammation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r if present, it is mild and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secondary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BF336-5308-462C-8018-23A09CA85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arthro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MARY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iopatic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e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osiv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ONDARY</a:t>
            </a:r>
            <a:r>
              <a:rPr b="1" lang="sr-Latn-CS" sz="28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juri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ditary developmental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bolic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crine disorder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flammation of joints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opathic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ditary disorders in collagen synthesi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25092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Degenerative diseases (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rthroses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) of joint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457200" y="1197000"/>
            <a:ext cx="598644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libri"/>
              </a:rPr>
              <a:t>Clinical picture</a:t>
            </a:r>
            <a:endParaRPr b="0" i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– initially only when overused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Stiffness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– in the morning and after long-term immobilization 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Functional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disorders and joint </a:t>
            </a: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deformations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Crepitation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Laboratory results - normal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A4FF7-E42D-42A1-86DE-BE972802E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diographic signs of arthrosi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457200" y="2133720"/>
            <a:ext cx="569916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pace narrow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chondral sclerosi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teophyt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sts in the subchondral bon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592360" cy="2303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6315120" y="4076640"/>
            <a:ext cx="2504880" cy="18288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4B4A0-4ED7-460F-88EE-CA80B5E85C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boratory analy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here are no specific laboratory test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S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s normal or mildly increased in the subsequent inflammation complica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D3119-9DFC-4ABD-96E7-E751E50ABD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539640" y="40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evention of 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611280" y="1916280"/>
            <a:ext cx="83055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and an early treatment of congenital deform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ip dislocation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injuri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 (adequate body weight, regular moderate physical activity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609480" y="762120"/>
            <a:ext cx="7131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dicamentous treatmen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1979640" y="1989000"/>
            <a:ext cx="6194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gesic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SAID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ly administered glucocorticoi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ndroprotect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479520" y="260280"/>
            <a:ext cx="757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n-medication treatment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900000" y="1773360"/>
            <a:ext cx="705816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formity correc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ndoprosthesis implant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ox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763640" y="1557360"/>
            <a:ext cx="6265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most frequent kind of arthrosis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Most common in persons aged &gt; 40 year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=F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250920" y="6245280"/>
            <a:ext cx="3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8D245-9E94-4D6C-9839-089B69A89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ox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rimary or idiopatic –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t is not the result of any known pathological hip condi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about 42%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ond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xarthroses develop after various pathological hip condi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40% of all coxarthroses are the consequence of the hip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velopmental disord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th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fter protrusion of the acetabulum, after injuries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u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nflammatio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1754E-C60E-4BA9-8009-193C9F55C8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ombined therap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250920" y="1600200"/>
            <a:ext cx="339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icamentous therapy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algesic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ti-inflammatory  medicin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sease-modifying  medicin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iological therapy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708360" y="1600200"/>
            <a:ext cx="518472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therapy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etter circulation and tissue nutri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etter evacuation of the extravasate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vention of muscle atrophy and  contractur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enance of the tissue elasticit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enance of the activity of the kinesthetic and motor engram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General condition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F671F-FFFF-4848-8ADD-9C005448B9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250920" y="1341360"/>
            <a:ext cx="84358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ain when walking —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the basic sign of coxarthros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t occurs after 200m, 500m, 1km or more, depending on the degree of coxarthros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At the initial stag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t diminishes with rest and when lying down, but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n the late stage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t is felt during the whole day, later even during the night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t is most often localized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in the anterior thigh extending to the kne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or in the anterior inner thigh; more rarely in the posterior thigh or under th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EE8D3-E43D-4CF6-8C51-017F212EEF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468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rogressive limitation of the range of hip motion 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flexion movement is affected at the latest stage, while much more common are limited hip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rotatio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or limited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abduc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often accompanied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epi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audible cracking or clicking sound in a damaged hip, as well as occasio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ck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hip join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later stage, the patient experienc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ain when putting pressu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hip,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ypotroph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thigh muscles, or decreased trophy and strength of the thigh musc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F7F13-7AF4-45DF-95B6-759205F895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n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763640" y="1989000"/>
            <a:ext cx="669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comm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60% of persons older th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 years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90% of persons older th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68436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684360" y="1916280"/>
            <a:ext cx="77724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he first clinical sig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starts o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terior or inner si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knee, much more rarely on the outer or posterior side, while later, it affects the whol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t the beginning it occurs when walking, especially on uneven groun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EA221-489F-4D5A-A681-28F8591A59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rating sensation,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crepita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n th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ocking of the knee joint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loss of mo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occurs rarely and usually as a consequence of other damages of the joint cartillage or the menisci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Swelling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of the knee and accumulation of fluid in the knee occur at the later stag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Limitation of movements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especially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flex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occurs many years later after the onset of the diseas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47B82-7146-48F9-8EAC-BE2D28D00B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1547640" y="1635120"/>
            <a:ext cx="749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Preventive measur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servativ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: analgesics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SA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locally administered glucocorticoid, chondroprotecto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hysica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rgic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820D5-3CF1-4FBF-8470-6392E80946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p endoprosthe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5500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nee endoprosthe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979640" y="1936800"/>
            <a:ext cx="4968720" cy="378144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08665-F6ED-4ED6-92A6-CCAE880F63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324000" y="1197000"/>
            <a:ext cx="84643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Joint unloadi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rease of body weight, a cane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crutch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esi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xercises for maintenance and improvement of the strength of the stabilizer muscl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y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 swell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Therm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fter resolving inflamm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Elect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F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potassium-iodid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ortic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C, DDC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gnet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ase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Hyd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86461-A044-4778-81B0-C10F09350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395280" y="549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rheumatic disease of the spine - spondylosi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1187280" y="1941480"/>
            <a:ext cx="662472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ervical syndrom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Local cervic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brachi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ceph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medulla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CFE70-6BDA-4174-8103-0EABFCCA6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Aims of medical rehabilitat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900000" y="1557360"/>
            <a:ext cx="7786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 musc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trophy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join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tra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steoporos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bon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str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ue to inactivity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еduc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11AA4-DFC2-4F5A-999D-39F6D628EB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468360" y="40464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 of the cervical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uring 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</a:rPr>
              <a:t>аcute phase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ocally, on the skin above the muscles located near the cervical spine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ryomassag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s applied (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ryowra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In more severe case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stabilization of the cervical spine 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in the soft neck brac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Schantz collar) during the day and night, then only during the night while the symptoms are present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18502-696D-42FF-9E3B-E2BCF5CBE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 of the cervical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chronic phas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when the pain intensity diminishes, аnd the spine becomes more mobile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tions (analgesic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r NSAIDs as need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or reduction of pain and spasm of the PV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al procedures in the form of warm compresses, hot baths, shower, infrared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apeutic ultrasound or sonophoresis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traction (stretching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 –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most importa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15A9A-95BB-43D3-A3A9-2EC83C91DA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0" y="630360"/>
            <a:ext cx="9144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r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57200" y="1628640"/>
            <a:ext cx="82296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Lumbalgia</a:t>
            </a:r>
            <a:r>
              <a:rPr b="1" lang="sr-CS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unspecific lumbar pain) (over 95%) – pain in the lower back from the lower ribs to the gluteal lin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ciatic syndrom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less than 5%) - pain spreding usually down one leg, which indicates irritation/compression of the nerve root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evere spinal pathology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less than 2%) – progressive neurological defici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1BF24-D055-45E6-ACA9-49F923431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lgia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according to its duration: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acut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&lt; 6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subacut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6 -12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chron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&gt;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Acute lumbalgia occurs due 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trusion of the nucleus pulposus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ubluxation of the intervertebral joint (facet joint Sy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C6CD0-C896-48EE-89CA-27CDB676F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68360" y="6174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r discus hernia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E369F-10AB-4A5D-8D5F-77E3E3AB2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3"/>
          <p:cNvSpPr/>
          <p:nvPr/>
        </p:nvSpPr>
        <p:spPr>
          <a:xfrm flipV="1" rot="5400000">
            <a:off x="2052360" y="2203560"/>
            <a:ext cx="2087640" cy="1656000"/>
          </a:xfrm>
          <a:prstGeom prst="rtTriangle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826920" y="2041560"/>
            <a:ext cx="741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ten between the age of 30 and 50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n more than 95% of cases at the level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L5 (compression of the root L5) or at the level L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S1 (compression of the root S1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tabLst>
                <a:tab algn="l" pos="0"/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68360" y="568440"/>
            <a:ext cx="8229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2050920" y="1428840"/>
            <a:ext cx="613116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CONSERVATIV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hysical therap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SURGIC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6BF39-5B08-4912-9B61-02D8C2430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57200" y="1052640"/>
            <a:ext cx="84358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600" spc="-1" strike="noStrike">
                <a:solidFill>
                  <a:srgbClr val="000000"/>
                </a:solidFill>
                <a:latin typeface="Calibri"/>
              </a:rPr>
              <a:t>ACUTE STAG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ying in b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(CAUTION!!!)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 activity;</a:t>
            </a: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traction</a:t>
            </a:r>
            <a:r>
              <a:rPr b="0" lang="sr-Latn-BA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lumbar sp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 therapy (antiphlogistics, analgesics, sedativ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i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600" spc="-1" strike="noStrike">
                <a:solidFill>
                  <a:srgbClr val="000000"/>
                </a:solidFill>
                <a:latin typeface="Calibri"/>
              </a:rPr>
              <a:t>SUBACUTE STAG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formation and education regarding the diseas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a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nual 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58693-8A8D-4FE0-8CE5-233116122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468360" y="270000"/>
            <a:ext cx="82296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8220" r="0" b="13858"/>
          <a:stretch/>
        </p:blipFill>
        <p:spPr>
          <a:xfrm>
            <a:off x="533520" y="3005280"/>
            <a:ext cx="2293920" cy="16761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89D21-4D6F-44FE-AAD5-24CE7572A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2"/>
          <a:stretch/>
        </p:blipFill>
        <p:spPr>
          <a:xfrm>
            <a:off x="3124080" y="2819520"/>
            <a:ext cx="3048120" cy="2046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3"/>
          <a:stretch/>
        </p:blipFill>
        <p:spPr>
          <a:xfrm>
            <a:off x="6477120" y="297648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4648320" y="3357720"/>
            <a:ext cx="137880" cy="312480"/>
          </a:xfrm>
          <a:prstGeom prst="rect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473040" y="50328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68360" y="1546200"/>
            <a:ext cx="3382920" cy="2387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382920" cy="25765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4"/>
          <p:cNvSpPr/>
          <p:nvPr/>
        </p:nvSpPr>
        <p:spPr>
          <a:xfrm>
            <a:off x="4067280" y="1557360"/>
            <a:ext cx="485928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6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Advantages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ccording to Archimedes' law, water reduces the body's weigh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Water temperature decreases the muscle spasm and improves circul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 muscle weakness, improved efficacy in performance of movements has a positive psychological effec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0AAE4-DE8C-452F-865E-91B8526CD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68360" y="6174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Medical rehabilitation 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457200" y="1484280"/>
            <a:ext cx="83628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HRONIC STAG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Therapy in this stage is directed at </a:t>
            </a:r>
            <a:r>
              <a:rPr b="1" lang="sr-Latn-BA" sz="2800" spc="-1" strike="noStrike">
                <a:solidFill>
                  <a:srgbClr val="ff0000"/>
                </a:solidFill>
                <a:latin typeface="Calibri"/>
              </a:rPr>
              <a:t>maintenance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 of the  achieved state, or use of selected procedures on the basis of the functional stat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800" spc="-1" strike="noStrike">
                <a:solidFill>
                  <a:srgbClr val="ff0000"/>
                </a:solidFill>
                <a:latin typeface="Calibri"/>
              </a:rPr>
              <a:t>Ergonomic counselling and train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Through ergonomic counselling, the patient is trained for performing and using the protective movements and posi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A882C-F715-404E-9F71-69900D27E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419040" y="189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Ergonomic counselling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66CF9-655C-40F1-AA3C-AABCCA408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1096920" y="1279440"/>
            <a:ext cx="65833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471600" y="270000"/>
            <a:ext cx="82296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Prevention of the lumbar syndrome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457200" y="1484280"/>
            <a:ext cx="843588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ssuming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protective positions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– ergotherapeutic adapt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Muscle strengthening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– it is important to achieve balance between the strength of trunk flexors  and extensors, which means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etween the muscles of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the anterior abdominal wal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back muscles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s well 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alance between the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hip flexor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extensor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66059-3161-458F-B18D-5BF6628FC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Extra-articular rheumatis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1835280" y="1467000"/>
            <a:ext cx="59767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hesitis or enthesopath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s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osynov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niculitis or cellul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ofibros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07152-A08C-42AB-98D9-4507B9795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eriarthritis humeroscapular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457200" y="2276640"/>
            <a:ext cx="82296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Basically -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swellin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calcificatio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of the soft structures around the shoulder joint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process is  accompanied by the following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symptom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pain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limited range of motion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muscle weaknes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9247C-A39D-4160-8A70-6BBF75A66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ENNIS ELBOW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(epicondylitis humeri lateralis)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JAVELIN THROWER'S and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GOLFER'S ELBOW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(epicondylitis humeri medialis)</a:t>
            </a:r>
            <a:endParaRPr b="0" i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611280" y="1600200"/>
            <a:ext cx="799308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ENNIS ELB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ain and tenderness o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te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de of the elb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ttachment of the forear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tens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JAVELIN THROWER'S and GOLFER'S ELB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enderness in the area of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de of the elbow joi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ttachment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ear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lex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thoanatomic chang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t the site of muscle attachments to bone:  periosteal thickening, metaplasia of the muscular attachments and fibrosis, ev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issue calcifica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457200" y="3678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403280" y="1589040"/>
            <a:ext cx="6923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otherapy (locally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 – electroanalgesic procedur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V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frared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HOCK W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high-energy sound wave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D24EE-0F3F-4EBB-A49A-FB75773ADD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476280"/>
            <a:ext cx="8229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br>
              <a:rPr sz="3600"/>
            </a:b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6836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common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heumatoid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ondyloarthropat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Ankylosing spondyl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orbusBechterew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i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syndrom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Psoriatic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Enteropathic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869BD-2778-449D-9EE7-26EF0A8691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ic disease of the connective tissu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f unknown etiology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ith chronic and progressive course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linical characteris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mmetric destructive polyarthritis,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volvement of other organs in a small degree,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s consequences include dissability, reduction of working capacity and premature death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B2502-4014-4CDB-9429-BD4ED70AF7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6:09:49Z</dcterms:created>
  <dc:creator>Vojislav Ilic</dc:creator>
  <dc:description/>
  <dc:language>en-US</dc:language>
  <cp:lastModifiedBy>Nada Miklja</cp:lastModifiedBy>
  <dcterms:modified xsi:type="dcterms:W3CDTF">2023-09-27T09:24:02Z</dcterms:modified>
  <cp:revision>612</cp:revision>
  <dc:subject/>
  <dc:title>Slide 1</dc:title>
</cp:coreProperties>
</file>